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E288-5EC9-446C-A80D-AA4A1C613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2C7D-B507-44E8-82C9-9EF58E49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38AF9-3D36-4CE3-981A-DFAC3C8A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908D3-1752-4DCD-A04D-2A884F81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E3CCC-DDFD-4557-9DBB-2CEC1806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B5E56-1943-4A4A-95F0-A5746C93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66322-8030-40A6-8965-3A532BA2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07DB5-D257-4BA4-B2D4-D4F72187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3E327-B9F4-4A38-B01B-D50395F1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AE870-FD34-4D60-A65B-2EE96EB5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34143-83C1-4FB6-83B0-49DE3588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D811F-821F-498A-B704-771778C7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BC60-BDC2-4E99-91DF-BC4B34E2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D389A-2364-48F6-A804-48EE17B9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368A4-1396-4EDC-BA56-BCE5444F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7EC5A-3918-4A99-A5E4-86F99CDB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7F195-52BD-4A18-9334-5F239333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E109C-ACE3-413A-BCE6-B1BB9107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E09EB-278A-4C33-BA0F-81E56FE4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E41F8-F8B9-466F-A78B-4B67FE45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870FB-7815-4BFC-8510-C69F8D3F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82D20-0E81-4B0C-A340-ABD744CA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75AFE-0DB6-4601-81D6-B5DA7A30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7B81-134D-4691-B9FD-55E0A31E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9A159-F879-4EC8-AD92-D03E9EED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73F67-47C2-4704-B5E6-32B2531A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D3D02-665F-46E7-BE49-145EFDF2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29636-0A1F-4375-901D-2FD07BEF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C408F-4D51-4709-81E8-5140046E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4127D-BD3F-4700-A6A7-1C9E1AB3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D35AB-4CBE-4FF6-87EE-C40A7712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1C7B0-76B9-4D28-8660-1244E2A2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8D49D-A1B9-4774-8A98-003C4904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9D902-CA9E-4251-9522-6A8B5F74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63FF-3187-48D8-8C32-9D2FBE41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39574-FA16-40B8-A146-C306BA23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DB791-D316-45ED-A2ED-FE9A0B81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948A2-C487-406B-B6D1-58B00BF7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2639A-5862-4E82-8E89-4D4A2746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0DE6B-9BB3-4A21-951E-B249FC01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8E4A6-387C-484F-8056-986742D3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15912-BA90-4E21-84C9-A6D36D04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1BB2E-35C7-43AE-AEB9-031A7867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5BCD5-6B78-4B1C-A3B3-8E4BE194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75813-F2FB-4792-BFA3-C01F0E84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05D1-F262-410F-AE02-4C6F38F8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6BDE0-3411-436D-90C5-09B6610C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BA760-98CA-45C3-ADC3-8C05BBBF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306C1-ACCF-48EE-8B64-8C320594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4CC5B-A621-4182-A93E-363C774C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B150B-B99F-4205-A749-E5C68985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F14401-45B7-4C8A-8916-C5FB038D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5992F8-0C7B-45F9-88E7-434D374A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01B1FA-7208-4EEF-875A-3A7AA343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A3CA54-C625-4F9C-B769-4A5BF02F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4C469B-BC56-4DF3-A47C-FE084A8E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AD73-124B-4DC0-A379-DB6C52F2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246992-4B2E-4927-AC30-E2E29F73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C51DF1-C0E8-4968-A04F-A2B8ADDF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2AE6F6-6167-49C1-B7A7-52079E2D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2760D7-8CD2-4406-B9BE-794B8DBE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0E72D4-850B-4F89-A802-1CF89FF0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8E2382-7CCD-4E0E-AACE-DE385F5C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32F2E6-7C74-4644-935C-211F1472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C3368B-1C8D-423E-A431-D1720F78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74B77D-ABF4-46F1-8C0C-11C78481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B9E853-A916-4F5D-9691-6C9DFEBA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2E09-6537-4C24-9AA9-4668C065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85102E-894C-4C4D-9211-E06D976E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33E3F9-71E5-47E9-BB61-71E4393A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C4F81F-6C74-458F-969A-CCC7C300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D584AD-A278-422A-8176-7B360D42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DB58DC-0417-4741-BD57-5C6B1182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390EF3-1CDE-4855-B0EC-3AFCF973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4DA259-46E4-4DD8-B12F-E14C34CE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B998B2-DB0B-46F9-BA05-19D59F99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747885-2B98-4B47-864F-C3074B1D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70D91F-FA8D-45CF-9C4B-997C4738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F981-FA00-496D-88C7-28FBF925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3F612A-50A4-4C42-A0B8-2415E155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7EEB0B-AAFF-481B-A238-4FC0963D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95FF13-C796-48F5-9308-78E8F3ED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F730CC-E89D-41A1-A4B1-9E068B16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F21135-E84F-4292-A11A-146AFAE5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8A933A-DD25-4259-9046-412CEC31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3FD01F-189D-4991-B36E-11BE2CB1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3D23DB-107E-4F34-8EE8-14BAD13A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DDC050-73F4-46CE-8EF5-A92189FD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FC5570-CE24-4E3D-9692-504D246C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0E91-4CE1-4035-9D8F-9BB76C72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270942-3909-4A0A-BC11-6BB8618F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039A0B-39C7-4C69-A6F3-321DE76E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1B747B-9A86-423F-90D4-F24FB8E3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A7C7DE-CE80-4EE6-A470-0E322AB6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502DAF-20E9-4AE2-A125-878C71EF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264072-EBF9-48C3-9941-3E1085FC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899CD1-1D6B-46AC-B0B7-4D6B7DA0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0E3C6A-05E0-47A4-B50A-8ED92D18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AE1598-0421-4D0D-BA8E-CCD23AE2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E5389C-CED8-4475-94EC-4509ABE8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4609-0575-46B6-AB79-64584C9F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DDDB68-3430-415B-A61A-AACF75FC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D4FE06-418D-438E-A99D-3518F63B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CE295D-7C4C-435E-A2C9-6152BB7E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BDABDF-4437-43AA-B37C-CC216600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332C87-BAEC-4017-990A-DB72AA31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F28CF0-941D-4354-B14E-C4C7A59A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BB0D73-0711-4045-BACE-873A086C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5BF43A-47A3-4417-B7B6-0B4E224D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6A36EB-29A9-47C3-ACD3-368506D9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1B6DAA-D0E3-4C24-B173-357A9A57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41B2-9BBD-4279-B708-7AF956BF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A5B4-9E9D-48FB-9313-D4882BA5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51C7B0-774B-4261-8C3C-9B5AE61B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675B7A-5799-460F-BBA7-D0C0C274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3B25CC-2714-4F85-A52B-308BCC97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F15303-6A98-4093-ACA7-950FE88B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269A54-1FB2-47B8-BAC1-12E36DF3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AEE803-EFF4-46B9-AC08-D852CF49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179E0A-7B5A-4BDB-B51A-F52CF225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166D48-1850-48C7-8D2A-516EFD3B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144C15-A55D-4F72-80B3-B40B58F2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1834F3-27F3-44B9-A6FA-9D0BB115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502E-3FF6-4355-8610-A2E024C7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642BCA-42F8-4D05-9D80-022D28EE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A7CB61-0803-4E28-B685-0A690920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AF89C6-AA3F-4C92-B319-16BA3521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E043B0-BB5E-43B5-AA4A-C20B9756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F602FD-9E70-4684-BB36-2549C52F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606E31-8078-4382-B6DB-D9FC7BBB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6D9647-6DC1-4748-9407-CF67D663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8E9F18-5879-4FDD-B628-76F1BDA7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B76B92-A0A3-4FE1-8CFC-075C293F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0FFAE2-4942-4D3B-A7D4-F304F2F9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5F50-0FA4-4E67-A78F-FEFBB43B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A591A8-2850-4B08-9E73-197458D2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5BCEBB-03E2-4503-993F-0C55F99B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C7C61D-34AF-49D6-9447-FB0A818E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CAB6AA-5ED5-409A-A7C9-4882F39A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952EBD-13A2-45FF-812B-5610D0E6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B7AA82-8FDC-4EF2-ACC3-2C1677DB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1A6C1D-33FB-4276-8A40-56701528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4299A1-1C6D-4F97-B779-55B82529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B34F43-3C73-4ADB-9FE3-A30BD96E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6103B5-98A7-4E94-BF41-66A4FD42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D7D5-23E7-41A8-9ACF-8D1DE9C9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5F98D5-827B-4B8E-90F3-D86B2D80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7301F3-4900-4EEE-8B97-B5E2876D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60F209-53CE-4E31-B76B-FBB89728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F9CA9B-5875-442D-A586-3555D877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13B4C2-7F5F-4151-9785-7D6FEE52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04DB2A-F039-4EB7-B41B-5302271F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F8F995-8472-4780-9732-861C1FB1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F88DD2-A2DB-4674-8B15-6D76CB0F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1153DB-04EC-4BDC-8A0F-1BCC3F11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2FFB12-9BE5-4624-B5BD-28A3B577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CC03-F437-488A-9F95-3E85F613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EF7F4A-EB6C-46F6-8823-F1CAF9C7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D07EE4-EDA4-4D13-A8DC-F696ACBA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FB7A67-213D-423F-BEAE-E8029CF9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063F34-4B5C-48DE-8DE0-E38F7F0A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9DB120-C6A1-4052-97E1-4D0EFDA4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0652BB-4173-4E4D-B353-73AFE360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A8C47D-BC9A-480D-8D77-98813C72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CAEFC8-7155-46F0-B08E-3DF1D34F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F1B715-9607-410D-AEE0-9DF55D9B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3BE8F6-8F64-47CB-B8AE-78B6D6C9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7466B-0B9A-4C33-BC22-3573D8EA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3E7D04-6CA8-4E1A-A93F-AED9E942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176A7A-8244-49B2-B083-3240B2CF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933401-E30B-484A-BC5D-BAB11C06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00BA30-EC7B-410E-A23C-16726759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66BFE3-1235-4DB4-BE5E-914A5165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F4FD28-2F29-40BF-8213-B786C702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8DAC75-DAB7-41F0-BBD0-0B54AFE8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2E1EB5-1891-4D64-85A4-EBD1E385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771CA0-30B1-439B-872B-D9E0EC9F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0FEB53-617F-4688-90D1-E28ACD45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F2E65-74C1-4E31-A53E-CBEDEC10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4816F4-4AAF-4659-B3B8-F39780BE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BA7DAC-23D3-45C5-AAD3-3F44D718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BAC1DB-E6E4-4EAA-99E5-1BF3AF47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22C7E5-88D0-46DF-B8A9-4642003F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94F87B-ABC4-4D7B-A1C6-D331AEDE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7C66F4-98B7-499D-A25D-759939CF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1C8240-DDAC-44DA-BD6E-B43B572A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36CB48-F8CA-4833-BC85-10188667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645BDD-9C82-48C7-A7A6-94D65D44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25A880-B159-4342-A98A-45BCC900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B12B6-1B0A-4A70-AC60-13811813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834AEF-F99E-410F-9C15-54C8583A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63FC68-C018-474C-AC4C-2DD4AE8B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6D6FAE-ADA5-4BEB-8BE7-E640DA7F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7A0143-A3E4-4EBF-9057-BF4E7EB6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C199B7-8914-409D-B1D9-17433344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7A3271-A934-49C7-9865-C58E6946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AF54F0-560F-4A30-A2FA-40F35EC8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C559DC-570E-4647-A62D-3F6B5164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4C02BE-AD8B-4D55-9629-FB310490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CE9CD9-B9D4-4B11-A147-23C459E4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56922-2AA3-4EB9-B729-9352E2CE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59B76F-E93C-483C-BF1D-43422BB0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1C8390-B095-4D2F-A92E-4CDAF5B9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8B2B60-59E5-4584-8D9A-5E5DB9D8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1575EF-9C28-4A65-AA1B-937B66CC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319BA1-963D-4513-BE06-E77A0F35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44B8C5-6A2C-411A-B90D-A3FBC317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3655F3-28ED-466F-9A64-A8DDCB98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EF009A-F1F2-48D9-A712-FFAD1FA4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E5F64E-CEE9-4AEA-A11F-81CAC565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483A26-6CC4-469F-AFD8-AA217DA7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274AD-DF3C-4C33-AF00-42405D21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F23270-E985-4E6F-AB08-99A39650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77CCFC-F63C-4D05-991A-1921C4A5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E0DE3F-E8EA-4129-9A64-68A0791E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D9FBEB-20BC-45DB-93D5-331560A7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561F42-CA58-4FF7-ACF4-71AB902C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192933-089E-4DD4-8098-1ACDDA16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A21B11-8952-4140-8372-47E03F1E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B3A33D-31DC-4D7A-A314-848C1340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56AF52-8136-4B27-A8C5-85DFABC3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BA1860-F97A-4935-BBFD-48E0B7ED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C5E0-B1EE-4E57-893C-F781798B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ADC9D-CF97-4E7E-8B5C-E35084F6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786E27-4CA8-4FCB-8F28-38C43C48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28B046-23F3-4B43-AE38-1F6427F9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62A724-F19A-4D6E-B404-A9CC34E8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DE4BA5-FD03-4F37-BC36-DD1417B3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738101-56C3-4FAB-BA6A-C203995E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885122-09F1-4B1E-9D20-D509F7E3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360F8B-109E-4D36-8545-46C74F01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BC3DD4-7DE9-40C2-8E44-16F3C628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A8A342-4A76-45FA-9881-F771F5D6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52C042-E334-4426-8533-A4F48E70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319D2-6181-4D03-84A9-FAFA2A60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65931F-08FB-4FFD-B826-BE71C8E1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2AD4FC-2A0E-4746-8C3C-8EE5C7D5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FF5629-2F8B-49DD-8151-927A8C95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7999DE-07B0-4643-8E91-B5D4640A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7841E3-03DE-405E-9F65-83CA43CF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C482C5-D401-4595-BF18-9AF6FA01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42B599-9DFA-46E2-9E76-3489A637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D2A86B-BE81-4466-A489-C727660B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E3E7A7-94FC-4153-B1AB-EF47A70F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F30B0D-413D-4CA8-B0A0-82536F72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D3152-4517-4681-8B38-CF37692D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F8F479-DD0C-4E8E-AC58-CB48CB9A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22B9E4-13A0-4C1D-9E7E-895727FF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4951BC-9A5F-426F-B8A0-BCA4EA56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AC7BDF-B0D3-44FA-A989-E3E2E2EE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53FD9F-243C-437C-B8BB-43308E0D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5872CA-3C8B-4C0C-9989-81A2C8C0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812D26-FFF6-4BC5-822A-092D4C7E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7957FD-394A-4434-92F1-2036A210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99F0D1-CB04-43A9-8576-2D28C1B4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C53EBA-497A-44FC-943B-B08314D7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67B80-2747-4C6B-BE0B-CEFD6740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FB00F8-AD33-4B38-A1FD-C6769AE5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EBCA19-7D84-4A58-83B8-F5D711A0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221D1D-3D42-45A5-99E8-B84589D1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342562-084C-42F3-B630-9EE37EEA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0E0FFD-5812-482F-81ED-3293A769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12D2DC-769C-498D-94EC-9F58D33A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440615-4382-40D4-B520-22026638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D65C77B-38CF-42B1-ACF4-1D00D5A8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7331EF-53F1-4A4A-96E8-586A66EA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B9A541-C95D-48B5-9367-E01CFFA6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71F51-ABB9-4CD3-9F4A-71E589EC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7655E7-75FF-46BC-B172-4BE2297C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9F72B1D-DA40-40AA-B8C4-4A862F48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5911A3-6879-41C2-924A-4738B20D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F42857-F1B6-40C0-8D0F-5D3C9D83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1C1CDD-49FD-4411-A2E3-E1E975E1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3BE4B0-6877-40E2-BE9E-0E28943A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85122B-E21F-4805-9972-B41BBB8A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BD52FB-BB8D-4E35-8FA8-B4A77FF2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4ED1547-4C41-4857-A79B-4EA771C3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C19B0B9-A21F-41DE-8D09-9128F096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91529-465E-49B1-B6E1-1CCD6590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4E4EAF-CB70-4EFF-8BF6-951CF11D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EFF792-2655-46B7-B03A-5715B29E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3858B10-1F0A-4DCC-8518-947CF8C2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6B6444-B561-4592-A909-A56F1176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7C7219-4C20-4C48-9054-B26CDAB6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3F2765-93C3-4C18-9C68-EFA9E649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13FA10-20F8-4D27-821B-342B4819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5F78A9-D347-4007-B0B8-91E25192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54FBD5-0A20-4F69-88A5-81F10D9C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60A8C6F-61EE-413C-864F-BDE33D2B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2408A-4B30-413F-B372-1F9DC906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52CB4B-F658-4AE5-994A-411D4270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46FB93-4430-430C-A03F-8AB542D2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BC99F5-8D4A-4779-A73D-597EC2A5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D51F634-F4D4-4F40-9AC8-EB3CEA4C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84092F-0320-4F74-978E-9E09CC35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50FCEB-A157-4ABB-9C25-89C4DEB1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BF555CF-28A5-4488-A1E0-492B5076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29F339-4033-4723-9C56-20AE34C9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F63E1E-5BFA-490D-B496-920F336C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D130EAE-1389-4872-AAEE-F04CAE88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16F2A-D817-4C75-BDA6-1E0DC729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7F337C-2EF1-42AC-9BEB-98D8A177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BA49F4-DE0C-40DC-8B56-AE86A16B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354449-3BBB-4C80-B5FD-2EAF749B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71340-137D-4975-ACD2-5FCE15E1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478FE-B8D7-4D76-A406-89025C09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9395-5FAE-44B4-AAE9-F43229D4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1C1BB-48CC-4BD1-82A7-7ED3F462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B7CF4-815F-41AF-9F05-FE75647F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01920-61F1-493C-837A-7842C405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FE6CA-0B6C-451F-8BA1-F7C10C7C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79838-8743-43AC-82B6-634938A0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0FCE4-200C-4CF9-934C-35A79D4E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156D8-C4B9-4AE7-861E-6A8CC071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B5AE7-08BD-486A-BF86-A285E490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0572C-EC3D-4511-86DC-4B06DAD3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B0E42-7E9E-4732-A727-C21CFB02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24CA-8AD1-4554-9827-6080299E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41569-595A-423F-AE28-47713FFE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BEF7B-9376-4783-B816-7B91796D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AC776-1766-4B1A-B92C-DA11040D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0F805-1457-4574-BED1-4C5DEAA9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7FDF3-3468-4288-BFD7-0BA79DCE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B8005-6443-4CAA-871C-16A05A66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23DE3-FEA8-487C-B348-C71B967F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70296-3792-4A1F-9E3F-D8F59D63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74DBD-D428-46B1-910D-4DD350B2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19D94-6861-40D4-80CC-28BE9479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0134-08B8-4D26-96FE-266C4216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942DA-1B2B-4F51-8500-0BEFA4BD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FF026-3DC6-401B-B962-BBCC2F51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BB49D-68E6-417A-9D8A-DDF2A221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BE639-0F8F-486B-9454-2FBBAC24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93CAE-BD6C-4DB6-96B0-BB110B9E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10974-C728-41A5-B658-7F18D16E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0CB33-12C0-4507-8D98-AEC7753F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9CE80-CE49-45C6-96F9-E00F2D79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BD5B6-1B41-4487-80A2-F86EF9B8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C152A-68A3-49CC-BCDC-8B1B9142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E4E8-02BE-41E6-B7C5-279D74DC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BE9FD-0F55-4DE5-8EB1-F6A08FA1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17364-E39B-453F-9BC3-5F469423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D4EC9-C911-429C-9061-128368D4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94D18-7F9D-4763-A2D4-7CEAC0FB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80D38-819E-47CE-9DB8-3FCB3423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55802-5259-42BC-BEF5-B28ADB7D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DF39C-F4A6-4C09-8CA6-22C009E9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C0ED5-44F8-45CC-9793-CAB0F27A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95116-D0DC-4A69-A258-8D31DAB9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DC1EB-4CCC-410F-AB64-C51CD775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F577-94F3-424A-871F-DBCE42D9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2EFF9-428D-4A55-A018-94EF6469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BE3AA-0B8E-49A0-AAFC-B9421C40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38F73-8AC9-4E06-8FFD-EDA90B90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C91DA-CDD7-42BB-B46C-BC01865F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7EB47-C0B3-4A81-BA06-056F94EA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F8472-8554-40C2-B82B-A16AEDF9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38394-1C44-4AD9-8968-DEB83E4D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A6FA7-92B5-4B91-8A5E-3445AAF6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C7323-50AE-454C-B29B-ED1ABB8E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9BF66-A929-4DBF-A015-86FB3DFE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CD25-FFDA-4494-B6EB-F3071D35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257A6-161C-4ED5-BE36-F9DEBE79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EACF0-B5E8-4F67-8177-17EE361D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C61AA-02E1-47DA-974E-DD7E097C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4ED0D-7A85-4AEB-8137-F72B09B6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67B7D-B715-4CA2-9601-22246B75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BD723-2232-4E75-8712-D65D8ACC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E0855-A9F4-40FC-BD70-4F464E0A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CDB4A-6D5F-421C-9EF9-19252571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EFC64-64A5-4801-9AE1-9F535CD8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0A442-5B6C-4CC8-BFB6-0D4A8A06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12A0-F422-4E09-A2CD-2130276D2F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62BA-07FA-422C-9874-489E0E8788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70B6-BB19-4861-A92B-F19709F981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B841-C050-4066-937D-38EF8D5DA7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2CC5-432A-4BC7-86EA-FF10CF403A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34BF-2F49-421F-AE0A-0D112D9F69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863A-DFDA-4174-A4B7-32C0992369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4460-A47E-4407-9A41-89833C9FEE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B584-EE68-466E-8DA5-5D3B4284C2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4E3F-3787-42D4-B352-229B366890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271F-7402-4B15-B73F-B1DC440BC9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DB57-5E01-4A0A-9571-D74183D0DB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FEEC-EE89-45BA-A31A-68D5208FE1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56FE-5855-44F9-847D-C4F5241B82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2632-932B-4F73-B313-8F28F0741A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BCDA-0983-4116-AA50-AA54C5560E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4644-45AB-458B-985B-062CF7EE12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41CB-3F2D-4190-A00B-609ADDDBD9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1A03-6FF5-4DB7-A253-F8148BDE6B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674C-F1F8-47E1-8BE0-798A6DFFED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038E-2ACD-4A38-869C-BD49DE3B7C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4C47-704F-4770-8C91-FC40543E1C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CDD7-CFDC-40A2-87BC-F7D719C5B6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5EE7-4C08-447B-9AC2-CDFC92A1DF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AB7A-2DEF-46CF-B59F-3111963C98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E1D8-B883-4E63-871F-6B32E9974A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5508-8967-44D8-A13B-38F18BDFFA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90C5-E4C7-4343-BEDB-7EFA16989E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176F-D533-429B-93A3-B37BC7CD4C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EAD0-39E7-496C-BDFE-9D9BB1FD0C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0C32-DDDC-49CC-A088-9014685CDA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E7EF-8415-4564-B3A3-B7102A2356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ADE7-0D8D-4B9D-95AF-1AEC178D65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E923-DD92-478C-886D-4E85BACC9A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516B-243B-44A7-A385-688D904CBD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8792-0189-4781-9961-030118C9EC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082C-3E8A-4A66-A3C9-139BD5423E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2B7D-12BC-48B5-A187-B693C3B35F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F79F-B0FA-498E-A8E6-71262E1B10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7839-B005-454F-8BAD-FC95A2981F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7F5D-5779-4CCB-A88A-7A46875F19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C590-EBE7-4277-A242-7D23A568CE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DB9A-4FD2-4E37-A099-5ACE0A5B01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C91C-FBB7-48B5-8E8C-789A430AF0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D874-9EB8-4BC0-8952-9F6BD4480A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2A31-DB67-4524-81ED-248921187A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41AF-8D60-470E-89F5-85D0C879A5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56B0-A43E-4694-B8AA-D493C51EE0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87EB-1C72-4674-998C-0F5764B88B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5223-DFB1-44C3-A53B-E2AC900E0A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3492360" y="1628640"/>
            <a:ext cx="2210040" cy="107640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2556000" y="2924280"/>
            <a:ext cx="3962160" cy="83808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28683" descr=""/>
          <p:cNvPicPr/>
          <p:nvPr/>
        </p:nvPicPr>
        <p:blipFill>
          <a:blip r:embed="rId3"/>
          <a:stretch/>
        </p:blipFill>
        <p:spPr>
          <a:xfrm>
            <a:off x="1403280" y="3860640"/>
            <a:ext cx="63342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116737" descr=""/>
          <p:cNvPicPr/>
          <p:nvPr/>
        </p:nvPicPr>
        <p:blipFill>
          <a:blip r:embed="rId1"/>
          <a:stretch/>
        </p:blipFill>
        <p:spPr>
          <a:xfrm>
            <a:off x="776160" y="1728720"/>
            <a:ext cx="7591680" cy="3400560"/>
          </a:xfrm>
          <a:prstGeom prst="rect">
            <a:avLst/>
          </a:prstGeom>
          <a:ln w="0">
            <a:noFill/>
          </a:ln>
        </p:spPr>
      </p:pic>
      <p:sp>
        <p:nvSpPr>
          <p:cNvPr id="1468" name="矩形 116738"/>
          <p:cNvSpPr/>
          <p:nvPr/>
        </p:nvSpPr>
        <p:spPr>
          <a:xfrm>
            <a:off x="5837400" y="1724040"/>
            <a:ext cx="89532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16739"/>
          <p:cNvSpPr/>
          <p:nvPr/>
        </p:nvSpPr>
        <p:spPr>
          <a:xfrm>
            <a:off x="6621480" y="2216160"/>
            <a:ext cx="89532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6740"/>
          <p:cNvSpPr/>
          <p:nvPr/>
        </p:nvSpPr>
        <p:spPr>
          <a:xfrm>
            <a:off x="7203960" y="2679840"/>
            <a:ext cx="125568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6741"/>
          <p:cNvSpPr/>
          <p:nvPr/>
        </p:nvSpPr>
        <p:spPr>
          <a:xfrm>
            <a:off x="752400" y="3171960"/>
            <a:ext cx="125568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6742"/>
          <p:cNvSpPr/>
          <p:nvPr/>
        </p:nvSpPr>
        <p:spPr>
          <a:xfrm>
            <a:off x="2933640" y="4146480"/>
            <a:ext cx="552600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6743"/>
          <p:cNvSpPr/>
          <p:nvPr/>
        </p:nvSpPr>
        <p:spPr>
          <a:xfrm>
            <a:off x="1116000" y="4619520"/>
            <a:ext cx="30243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4929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991640" cy="5848560"/>
          </a:xfrm>
          <a:prstGeom prst="rect">
            <a:avLst/>
          </a:prstGeom>
          <a:ln w="0">
            <a:noFill/>
          </a:ln>
        </p:spPr>
      </p:pic>
      <p:sp>
        <p:nvSpPr>
          <p:cNvPr id="1436" name="矩形 124930"/>
          <p:cNvSpPr/>
          <p:nvPr/>
        </p:nvSpPr>
        <p:spPr>
          <a:xfrm>
            <a:off x="2268360" y="2349360"/>
            <a:ext cx="5032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1"/>
          <p:cNvSpPr/>
          <p:nvPr/>
        </p:nvSpPr>
        <p:spPr>
          <a:xfrm>
            <a:off x="4097160" y="3556080"/>
            <a:ext cx="8352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2"/>
          <p:cNvSpPr/>
          <p:nvPr/>
        </p:nvSpPr>
        <p:spPr>
          <a:xfrm>
            <a:off x="5965920" y="3565440"/>
            <a:ext cx="8348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3"/>
          <p:cNvSpPr/>
          <p:nvPr/>
        </p:nvSpPr>
        <p:spPr>
          <a:xfrm>
            <a:off x="4284720" y="4076640"/>
            <a:ext cx="165564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4934"/>
          <p:cNvSpPr/>
          <p:nvPr/>
        </p:nvSpPr>
        <p:spPr>
          <a:xfrm>
            <a:off x="3292560" y="4570560"/>
            <a:ext cx="307980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4935"/>
          <p:cNvSpPr/>
          <p:nvPr/>
        </p:nvSpPr>
        <p:spPr>
          <a:xfrm>
            <a:off x="5543640" y="5484960"/>
            <a:ext cx="14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4936"/>
          <p:cNvSpPr/>
          <p:nvPr/>
        </p:nvSpPr>
        <p:spPr>
          <a:xfrm>
            <a:off x="2228760" y="5977080"/>
            <a:ext cx="17668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4937"/>
          <p:cNvSpPr/>
          <p:nvPr/>
        </p:nvSpPr>
        <p:spPr>
          <a:xfrm>
            <a:off x="5845320" y="5996160"/>
            <a:ext cx="17668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123905" descr=""/>
          <p:cNvPicPr/>
          <p:nvPr/>
        </p:nvPicPr>
        <p:blipFill>
          <a:blip r:embed="rId1"/>
          <a:stretch/>
        </p:blipFill>
        <p:spPr>
          <a:xfrm>
            <a:off x="738360" y="2095560"/>
            <a:ext cx="7667280" cy="2666880"/>
          </a:xfrm>
          <a:prstGeom prst="rect">
            <a:avLst/>
          </a:prstGeom>
          <a:ln w="0">
            <a:noFill/>
          </a:ln>
        </p:spPr>
      </p:pic>
      <p:sp>
        <p:nvSpPr>
          <p:cNvPr id="1445" name="矩形 123906"/>
          <p:cNvSpPr/>
          <p:nvPr/>
        </p:nvSpPr>
        <p:spPr>
          <a:xfrm>
            <a:off x="3695760" y="2198520"/>
            <a:ext cx="13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3907"/>
          <p:cNvSpPr/>
          <p:nvPr/>
        </p:nvSpPr>
        <p:spPr>
          <a:xfrm>
            <a:off x="5373720" y="2168640"/>
            <a:ext cx="1285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3908"/>
          <p:cNvSpPr/>
          <p:nvPr/>
        </p:nvSpPr>
        <p:spPr>
          <a:xfrm>
            <a:off x="3122640" y="2681280"/>
            <a:ext cx="1285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123909"/>
          <p:cNvSpPr/>
          <p:nvPr/>
        </p:nvSpPr>
        <p:spPr>
          <a:xfrm>
            <a:off x="4630680" y="2679840"/>
            <a:ext cx="1285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23910"/>
          <p:cNvSpPr/>
          <p:nvPr/>
        </p:nvSpPr>
        <p:spPr>
          <a:xfrm>
            <a:off x="6448320" y="2681280"/>
            <a:ext cx="1285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23911"/>
          <p:cNvSpPr/>
          <p:nvPr/>
        </p:nvSpPr>
        <p:spPr>
          <a:xfrm>
            <a:off x="1927080" y="3192480"/>
            <a:ext cx="170820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123912"/>
          <p:cNvSpPr/>
          <p:nvPr/>
        </p:nvSpPr>
        <p:spPr>
          <a:xfrm>
            <a:off x="2509920" y="3675240"/>
            <a:ext cx="170820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122881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39160" cy="5486400"/>
          </a:xfrm>
          <a:prstGeom prst="rect">
            <a:avLst/>
          </a:prstGeom>
          <a:ln w="0">
            <a:noFill/>
          </a:ln>
        </p:spPr>
      </p:pic>
      <p:sp>
        <p:nvSpPr>
          <p:cNvPr id="1453" name="矩形 122882"/>
          <p:cNvSpPr/>
          <p:nvPr/>
        </p:nvSpPr>
        <p:spPr>
          <a:xfrm>
            <a:off x="7715160" y="2538360"/>
            <a:ext cx="5493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122883"/>
          <p:cNvSpPr/>
          <p:nvPr/>
        </p:nvSpPr>
        <p:spPr>
          <a:xfrm>
            <a:off x="7786800" y="4959360"/>
            <a:ext cx="54900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21857" descr=""/>
          <p:cNvPicPr/>
          <p:nvPr/>
        </p:nvPicPr>
        <p:blipFill>
          <a:blip r:embed="rId1"/>
          <a:stretch/>
        </p:blipFill>
        <p:spPr>
          <a:xfrm>
            <a:off x="573120" y="1003320"/>
            <a:ext cx="8010360" cy="1952640"/>
          </a:xfrm>
          <a:prstGeom prst="rect">
            <a:avLst/>
          </a:prstGeom>
          <a:ln w="0">
            <a:noFill/>
          </a:ln>
        </p:spPr>
      </p:pic>
      <p:pic>
        <p:nvPicPr>
          <p:cNvPr id="1456" name="图片 121858" descr=""/>
          <p:cNvPicPr/>
          <p:nvPr/>
        </p:nvPicPr>
        <p:blipFill>
          <a:blip r:embed="rId2"/>
          <a:stretch/>
        </p:blipFill>
        <p:spPr>
          <a:xfrm>
            <a:off x="966960" y="3116160"/>
            <a:ext cx="7648560" cy="2800440"/>
          </a:xfrm>
          <a:prstGeom prst="rect">
            <a:avLst/>
          </a:prstGeom>
          <a:ln w="0">
            <a:noFill/>
          </a:ln>
        </p:spPr>
      </p:pic>
      <p:sp>
        <p:nvSpPr>
          <p:cNvPr id="1457" name="矩形 121859"/>
          <p:cNvSpPr/>
          <p:nvPr/>
        </p:nvSpPr>
        <p:spPr>
          <a:xfrm>
            <a:off x="7740720" y="2133720"/>
            <a:ext cx="5493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120833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29800" cy="5343480"/>
          </a:xfrm>
          <a:prstGeom prst="rect">
            <a:avLst/>
          </a:prstGeom>
          <a:ln w="0">
            <a:noFill/>
          </a:ln>
        </p:spPr>
      </p:pic>
      <p:sp>
        <p:nvSpPr>
          <p:cNvPr id="1459" name="矩形 120834"/>
          <p:cNvSpPr/>
          <p:nvPr/>
        </p:nvSpPr>
        <p:spPr>
          <a:xfrm>
            <a:off x="7740720" y="2421000"/>
            <a:ext cx="5493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20835"/>
          <p:cNvSpPr/>
          <p:nvPr/>
        </p:nvSpPr>
        <p:spPr>
          <a:xfrm>
            <a:off x="5540400" y="4792680"/>
            <a:ext cx="5493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119809" descr=""/>
          <p:cNvPicPr/>
          <p:nvPr/>
        </p:nvPicPr>
        <p:blipFill>
          <a:blip r:embed="rId1"/>
          <a:stretch/>
        </p:blipFill>
        <p:spPr>
          <a:xfrm>
            <a:off x="566640" y="1552680"/>
            <a:ext cx="8010720" cy="3752640"/>
          </a:xfrm>
          <a:prstGeom prst="rect">
            <a:avLst/>
          </a:prstGeom>
          <a:ln w="0">
            <a:noFill/>
          </a:ln>
        </p:spPr>
      </p:pic>
      <p:sp>
        <p:nvSpPr>
          <p:cNvPr id="1462" name="矩形 119810"/>
          <p:cNvSpPr/>
          <p:nvPr/>
        </p:nvSpPr>
        <p:spPr>
          <a:xfrm>
            <a:off x="7740720" y="2997360"/>
            <a:ext cx="5493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118785" descr=""/>
          <p:cNvPicPr/>
          <p:nvPr/>
        </p:nvPicPr>
        <p:blipFill>
          <a:blip r:embed="rId1"/>
          <a:stretch/>
        </p:blipFill>
        <p:spPr>
          <a:xfrm>
            <a:off x="571680" y="2247840"/>
            <a:ext cx="8001000" cy="2362320"/>
          </a:xfrm>
          <a:prstGeom prst="rect">
            <a:avLst/>
          </a:prstGeom>
          <a:ln w="0">
            <a:noFill/>
          </a:ln>
        </p:spPr>
      </p:pic>
      <p:sp>
        <p:nvSpPr>
          <p:cNvPr id="1464" name="矩形 118786"/>
          <p:cNvSpPr/>
          <p:nvPr/>
        </p:nvSpPr>
        <p:spPr>
          <a:xfrm>
            <a:off x="7740720" y="3213000"/>
            <a:ext cx="5493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117761" descr=""/>
          <p:cNvPicPr/>
          <p:nvPr/>
        </p:nvPicPr>
        <p:blipFill>
          <a:blip r:embed="rId1"/>
          <a:stretch/>
        </p:blipFill>
        <p:spPr>
          <a:xfrm>
            <a:off x="604800" y="1424160"/>
            <a:ext cx="7934400" cy="4009680"/>
          </a:xfrm>
          <a:prstGeom prst="rect">
            <a:avLst/>
          </a:prstGeom>
          <a:ln w="0">
            <a:noFill/>
          </a:ln>
        </p:spPr>
      </p:pic>
      <p:sp>
        <p:nvSpPr>
          <p:cNvPr id="1466" name="矩形 117762"/>
          <p:cNvSpPr/>
          <p:nvPr/>
        </p:nvSpPr>
        <p:spPr>
          <a:xfrm>
            <a:off x="3395520" y="4948200"/>
            <a:ext cx="88920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27:05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